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74.png" ContentType="image/png"/>
  <Override PartName="/ppt/media/image14.png" ContentType="image/png"/>
  <Override PartName="/ppt/media/image2.png" ContentType="image/png"/>
  <Override PartName="/ppt/media/image69.png" ContentType="image/png"/>
  <Override PartName="/ppt/media/image32.png" ContentType="image/png"/>
  <Override PartName="/ppt/media/image25.png" ContentType="image/png"/>
  <Override PartName="/ppt/media/image62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D0DD-EC21-4D37-9D7A-36B338DF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37E-2EA7-4F44-B82F-DA3E6844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15E-E58A-455D-8E14-DC6B4A12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653-79FF-426B-90BE-981ED300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D95-4637-4D37-90FC-9E6B835D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A0F8-D910-4120-B3EE-669C59D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AFB0-818A-40BF-A9AB-EA2714E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F1C6-346A-4009-9D43-955F253CB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C34-8D02-476F-B31E-1C02B227E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D8AC-A358-492D-AA2A-7B7FCB0A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C202-9CC6-4819-87B4-D8516A72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D74E-A3EE-409A-9C8F-6708A985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E87-9087-428C-B0FD-34A19A80C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8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png"/><Relationship Id="rId5" Type="http://schemas.openxmlformats.org/officeDocument/2006/relationships/image" Target="../media/image63.png"/><Relationship Id="rId6" Type="http://schemas.openxmlformats.org/officeDocument/2006/relationships/image" Target="../media/image64.png"/><Relationship Id="rId7" Type="http://schemas.openxmlformats.org/officeDocument/2006/relationships/image" Target="../media/image65.png"/><Relationship Id="rId8" Type="http://schemas.openxmlformats.org/officeDocument/2006/relationships/image" Target="../media/image66.png"/><Relationship Id="rId9" Type="http://schemas.openxmlformats.org/officeDocument/2006/relationships/image" Target="../media/image67.png"/><Relationship Id="rId10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Updates on dihadron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2215-8B47-4A36-88C6-25A5E7C4081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Sing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52560" y="137160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76240" y="131436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2757-AB2D-4BA0-8309-52398914434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Doub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3E1-2040-4EC6-87CE-0495F2C7473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Doub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8080" y="1314360"/>
            <a:ext cx="7581960" cy="5467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129528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B867-7D9C-4B63-AC0C-3F1CB868FFB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9670-29C5-4734-97B9-893B56B7A21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914400" y="1238400"/>
            <a:ext cx="7248600" cy="5391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28600" y="2590920"/>
            <a:ext cx="3492360" cy="2460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5562720" y="2590920"/>
            <a:ext cx="3363840" cy="246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288F-53FC-429F-802F-64ADDE280D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7353360" cy="53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20B2-92B4-428A-B16B-620F508DEE9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t and z 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1238400"/>
            <a:ext cx="7181640" cy="5391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952560" y="1219320"/>
            <a:ext cx="7343640" cy="5371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250920" y="2362320"/>
            <a:ext cx="3483000" cy="244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5562720" y="2341440"/>
            <a:ext cx="3436920" cy="245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B0E1-DCDB-466F-973F-F89460B2F9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419720" y="3581280"/>
            <a:ext cx="4232160" cy="2900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96920" y="3581280"/>
            <a:ext cx="4222800" cy="2887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882800" y="3352680"/>
            <a:ext cx="82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51160" y="3352680"/>
            <a:ext cx="127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0.5, 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2743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828800" y="2286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1904760" y="228600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2286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761760" y="22860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048120" y="2057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9080" y="2362320"/>
            <a:ext cx="33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4040" y="2743200"/>
            <a:ext cx="96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2640" y="228600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0" y="19810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3760" y="23623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261400" y="1752480"/>
            <a:ext cx="2983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hat’s the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look like with a cons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rinsic kt uniform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istributed in the trans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la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601992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6248520"/>
            <a:ext cx="1371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191400" y="6553080"/>
            <a:ext cx="29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etermined by the magnitude of k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43200" y="6019920"/>
            <a:ext cx="380880" cy="380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324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8320" y="137160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y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51055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48769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2900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045680" y="480060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048120" y="47242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9000" y="472428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18840" y="4267080"/>
            <a:ext cx="334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562720"/>
            <a:ext cx="228600" cy="3808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4864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029200" y="5562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57160" y="5943600"/>
            <a:ext cx="961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6800" y="5410080"/>
            <a:ext cx="1043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=1.5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77440" y="5410080"/>
            <a:ext cx="401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3E02-F615-4181-BF40-7551BA915C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4275000"/>
            <a:ext cx="3573360" cy="2430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495680" y="4267080"/>
            <a:ext cx="3602160" cy="24577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04920" y="1739880"/>
            <a:ext cx="3601800" cy="2451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752480"/>
            <a:ext cx="2971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ive a distribution to the intrinsic 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rrelation limit, 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constraint added.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Single G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 constraint on the p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Double Gau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362320"/>
            <a:ext cx="1371600" cy="30456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37339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49440" y="2286000"/>
            <a:ext cx="12859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91760" y="4800600"/>
            <a:ext cx="9612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3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F14-8A14-4749-99A3-E628C90BCC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ussion about the 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425680" y="4567320"/>
            <a:ext cx="2786040" cy="18842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476440" y="2446200"/>
            <a:ext cx="2781360" cy="1906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5759280" y="4567320"/>
            <a:ext cx="2775240" cy="19098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5715000" y="2451240"/>
            <a:ext cx="2786040" cy="1898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257800" y="3589200"/>
            <a:ext cx="415800" cy="339840"/>
          </a:xfrm>
          <a:prstGeom prst="rightArrow">
            <a:avLst>
              <a:gd name="adj1" fmla="val 50000"/>
              <a:gd name="adj2" fmla="val 305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5634000"/>
            <a:ext cx="415800" cy="339840"/>
          </a:xfrm>
          <a:prstGeom prst="rightArrow">
            <a:avLst>
              <a:gd name="adj1" fmla="val 50000"/>
              <a:gd name="adj2" fmla="val 305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1295280"/>
            <a:ext cx="2173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In the correlation limi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Correlation is quite sensitive to the intrinsic kT distribu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4440" y="32767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Gauss 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05120" y="51195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Uniform 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C0C-C2A0-45AA-8A82-23186A4D8D4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ulti-binning studies in a wide kinematics r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wo particle toy model to study the effect of intrinsic k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mpared with two theoretical mod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the realistic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DD93-9E02-46F5-9CA1-D34454C7954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way side width in C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rcRect l="0" t="0" r="0" b="48021"/>
          <a:stretch/>
        </p:blipFill>
        <p:spPr>
          <a:xfrm>
            <a:off x="200160" y="1371600"/>
            <a:ext cx="8638920" cy="2743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00400" y="2362320"/>
            <a:ext cx="4648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2743200"/>
            <a:ext cx="3048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429000"/>
            <a:ext cx="1143000" cy="685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4738680"/>
            <a:ext cx="7623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th an intrinsic kt, can we study the away-side width dependen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s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= 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rcRect l="0" t="0" r="20006" b="-8541"/>
          <a:stretch/>
        </p:blipFill>
        <p:spPr>
          <a:xfrm>
            <a:off x="990720" y="5562720"/>
            <a:ext cx="1218960" cy="457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819520" y="5526000"/>
            <a:ext cx="1218960" cy="274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590920" y="5867280"/>
            <a:ext cx="1523880" cy="254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2362320"/>
            <a:ext cx="380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682-68DE-4767-B801-69DBBA5BB1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 id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372000" cy="44672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811320" y="2467080"/>
            <a:ext cx="127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 kt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Au kt=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eAu kt=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cc"/>
                </a:solidFill>
                <a:latin typeface="Arial"/>
              </a:rPr>
              <a:t>eAu kt=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00"/>
                </a:solidFill>
                <a:latin typeface="Arial"/>
              </a:rPr>
              <a:t>eAu kt=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51880" y="152388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No parton shower, no fragmentation pt, only PGF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914C-CB87-4399-87F7-F570A083800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6005520" cy="43228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559240" cy="179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990720" y="2286000"/>
            <a:ext cx="380880" cy="1143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886200"/>
            <a:ext cx="285120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uble gauss fit of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ne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side pea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 Near side doesn’t change for different k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6E87-0A5E-4C6C-B085-282ED6FE93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Playing with intrinsic 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6005520" cy="43228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2559240" cy="1793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905120" y="1676520"/>
            <a:ext cx="685800" cy="1828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886200"/>
            <a:ext cx="2851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Double gauss fit of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away side pea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 Strongly dependent on intrinsic k</a:t>
            </a:r>
            <a:r>
              <a:rPr b="1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3040200" y="2057400"/>
            <a:ext cx="5951520" cy="431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380A-404C-4FC6-8394-B493A9BC895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701720"/>
            <a:ext cx="3629160" cy="2260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942840" y="4267080"/>
            <a:ext cx="3629160" cy="2251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4772160" y="4267080"/>
            <a:ext cx="3609720" cy="2219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6040" y="2209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26400" y="48150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418720" y="4800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98280" y="1828800"/>
            <a:ext cx="176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0.4,0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92840" y="2286000"/>
            <a:ext cx="349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a)~4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1.37,2.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96080" y="2757600"/>
            <a:ext cx="361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u)~197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/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)~(2.33,3.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35B-C390-4F7C-917D-5C6FBE4B35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914400" y="1467000"/>
            <a:ext cx="7219800" cy="53910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28600" y="2438280"/>
            <a:ext cx="4059360" cy="2907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130720" y="2514600"/>
            <a:ext cx="4013280" cy="2905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93960" y="41148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09840" y="419112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ore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C1E7-6847-4D37-85D5-5EBEC458461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e with saturation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832280" y="4257720"/>
            <a:ext cx="347364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41240" y="1663560"/>
            <a:ext cx="3602160" cy="24512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899080" y="2286000"/>
            <a:ext cx="11804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0.2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0.7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86720" y="4648320"/>
            <a:ext cx="20948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1.2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Au)~2.4x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1.68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876920" y="1981080"/>
            <a:ext cx="365760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Au)=6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)  vs 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Au)=2.4Q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cale is quite different from the saturation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~Q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s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not eq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63560" y="4248000"/>
            <a:ext cx="3427560" cy="2457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853000" y="4648320"/>
            <a:ext cx="21024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e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=0.8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Ca)~1.84xQ</a:t>
            </a:r>
            <a:r>
              <a:rPr b="0" lang="zh-CN" sz="1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(p)~1.3 G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A33-F5F2-4035-85D5-CF5F780738B9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1371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ang-Vitev-Xing, PRD, 1112.6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ing-Kang-Vitev-Wang, 1206.18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990720" y="4114800"/>
            <a:ext cx="4267080" cy="1989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066680" y="2278080"/>
            <a:ext cx="4114800" cy="176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9EB-AF7E-47CC-9BFC-E2099C8E857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733920" cy="11160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371600" y="3124080"/>
            <a:ext cx="4800600" cy="8240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5181480" y="4114800"/>
            <a:ext cx="3200400" cy="8618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0" y="4191120"/>
            <a:ext cx="4724280" cy="595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343400" y="3200400"/>
            <a:ext cx="160020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3200400"/>
            <a:ext cx="609480" cy="38088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437920" y="3581280"/>
            <a:ext cx="1295640" cy="609840"/>
          </a:xfrm>
          <a:prstGeom prst="line">
            <a:avLst/>
          </a:prstGeom>
          <a:ln w="9360">
            <a:solidFill>
              <a:srgbClr val="33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3581280"/>
            <a:ext cx="4572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6320" y="4191120"/>
            <a:ext cx="4800600" cy="685800"/>
          </a:xfrm>
          <a:prstGeom prst="rect">
            <a:avLst/>
          </a:prstGeom>
          <a:noFill/>
          <a:ln w="93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4191120"/>
            <a:ext cx="350532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33920" y="3581280"/>
            <a:ext cx="2286000" cy="3049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038480" y="4267080"/>
            <a:ext cx="762120" cy="45720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53080" y="4038480"/>
            <a:ext cx="685800" cy="9907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190512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For eAu,  only PGF and QCDC channels are consider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191120" y="5105520"/>
            <a:ext cx="5331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2209680" y="5486400"/>
            <a:ext cx="4381560" cy="4953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209680" y="5486400"/>
            <a:ext cx="4572000" cy="533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1295280" y="6172200"/>
            <a:ext cx="6363000" cy="4856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6324480" y="2514600"/>
            <a:ext cx="1524240" cy="284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6172200" y="2819520"/>
            <a:ext cx="2076480" cy="28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B0B-8A0E-4B1B-8C1E-D86D0539608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Double scattering form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3733920" cy="1116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427280" y="198108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purely PGF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743200" y="2743200"/>
            <a:ext cx="2895480" cy="58428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2057400" y="3429000"/>
            <a:ext cx="3135240" cy="22194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5105520" y="3429000"/>
            <a:ext cx="3676680" cy="297180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5"/>
          <a:stretch/>
        </p:blipFill>
        <p:spPr>
          <a:xfrm>
            <a:off x="304920" y="5715000"/>
            <a:ext cx="2057400" cy="276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6"/>
          <a:stretch/>
        </p:blipFill>
        <p:spPr>
          <a:xfrm>
            <a:off x="304920" y="6019920"/>
            <a:ext cx="1981080" cy="2667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304920" y="6324480"/>
            <a:ext cx="1981080" cy="29556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439360" y="6019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94640" y="5867280"/>
            <a:ext cx="153864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p)=0.2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Ca)=0.83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Au)=1.16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2743200" y="6095880"/>
            <a:ext cx="1162080" cy="1810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887280" y="6019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6019920"/>
            <a:ext cx="15264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5240" y="658332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 in 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00400" y="6248520"/>
            <a:ext cx="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2895480"/>
            <a:ext cx="381240" cy="38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41911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2362320" y="4572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38095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2362320" y="38098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9"/>
          <a:stretch/>
        </p:blipFill>
        <p:spPr>
          <a:xfrm>
            <a:off x="1828800" y="3429000"/>
            <a:ext cx="3344760" cy="2286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301120" y="3733920"/>
            <a:ext cx="1488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f(A)=k(A</a:t>
            </a:r>
            <a:r>
              <a:rPr b="0" lang="zh-CN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=0.4,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=0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39625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4520" y="388620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Equal CGC cu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2209680"/>
            <a:ext cx="25909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1E8-65FB-42D0-8666-9254E0D1C24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257800" y="1295280"/>
            <a:ext cx="2322360" cy="2241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95480" y="3581280"/>
            <a:ext cx="533520" cy="3812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257800" y="3733920"/>
            <a:ext cx="2286000" cy="23619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581280" y="3124080"/>
            <a:ext cx="533520" cy="3812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114800" y="213336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3962520"/>
            <a:ext cx="205740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81080" y="3809880"/>
            <a:ext cx="533520" cy="3812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454520" y="430380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71080" y="1828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609480" y="838080"/>
            <a:ext cx="1654200" cy="12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3A6-7DFE-4FF6-BDB0-07CE5227D22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arison of two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2720" y="15238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899600" y="15238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0" y="13716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520" y="2133720"/>
            <a:ext cx="11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30760" y="335268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86720" y="2133720"/>
            <a:ext cx="128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91080" y="1905120"/>
            <a:ext cx="3105000" cy="981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3267000" cy="10951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7768440" y="32767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ini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724280" y="3276720"/>
            <a:ext cx="3019680" cy="6094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4876920" y="3962520"/>
            <a:ext cx="2771640" cy="71424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1066680" y="3200400"/>
            <a:ext cx="3429000" cy="6858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990720" y="5514840"/>
            <a:ext cx="3504960" cy="733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447920" y="190512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31240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472428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92600" y="484488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7"/>
          <a:stretch/>
        </p:blipFill>
        <p:spPr>
          <a:xfrm>
            <a:off x="5029200" y="5257800"/>
            <a:ext cx="2057400" cy="2761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833480" y="4950000"/>
            <a:ext cx="173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Dihadron cross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545800" y="49528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 im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907760" y="489096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119560" y="5638680"/>
            <a:ext cx="21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input from the proton, flexible structure can be fit into different proton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0288-5834-4324-B19F-34816A3CF96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trinsic kt and parton shower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in the real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800440" y="2286000"/>
            <a:ext cx="6191280" cy="4429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5521320" y="3048120"/>
            <a:ext cx="82692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=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=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k</a:t>
            </a:r>
            <a:r>
              <a:rPr b="0" lang="zh-CN" sz="1800" spc="-1" strike="noStrike" baseline="-25000">
                <a:solidFill>
                  <a:srgbClr val="0000cc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cc"/>
                </a:solidFill>
                <a:latin typeface="Arial"/>
              </a:rPr>
              <a:t>=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42120" y="1828800"/>
            <a:ext cx="430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With parton shower, no fragmentation 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4760" y="3182760"/>
            <a:ext cx="271476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arton shower washes out the effect of 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?  Need a consistent description of the parton shower and intrinsic k</a:t>
            </a:r>
            <a:r>
              <a:rPr b="0" lang="zh-CN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7F8-CF84-4505-9CD8-9F19267A620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contribution from nuclear PDF is very small compared to CGC eff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can build a connection between two models with a sophisticated intrinsic k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se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nergy loss is not so significant in such an observ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rton shower needs to be reshaped when it comes to a realistic gen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379-5C0A-4082-A385-5CE15C1B77F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419720" cy="3733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76520" y="3657600"/>
            <a:ext cx="761760" cy="762120"/>
          </a:xfrm>
          <a:prstGeom prst="parallelogram">
            <a:avLst>
              <a:gd name="adj" fmla="val 72292"/>
            </a:avLst>
          </a:prstGeom>
          <a:blipFill rotWithShape="0">
            <a:blip r:embed="rId2">
              <a:alphaModFix amt="60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46483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ample 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371600" y="4343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3"/>
          <a:srcRect l="0" t="0" r="53744" b="0"/>
          <a:stretch/>
        </p:blipFill>
        <p:spPr>
          <a:xfrm>
            <a:off x="4572000" y="1447920"/>
            <a:ext cx="2714760" cy="2392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238880" y="1905120"/>
            <a:ext cx="1524240" cy="13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=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= 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gt;2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GeV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&lt; 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4"/>
          <a:srcRect l="48977" t="0" r="0" b="0"/>
          <a:stretch/>
        </p:blipFill>
        <p:spPr>
          <a:xfrm>
            <a:off x="4627440" y="4102200"/>
            <a:ext cx="2687760" cy="21463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3117600" cy="2219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26520" y="4379760"/>
            <a:ext cx="5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09480" y="838080"/>
            <a:ext cx="1654200" cy="1281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5A2-D4BD-4B78-A02F-CEFAA6EFB59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 flipV="1">
            <a:off x="3886200" y="3352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86200" y="3123720"/>
            <a:ext cx="4572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Comic Sans MS"/>
              </a:rPr>
              <a:t>Our Monte Carlo approach for the eA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657600" cy="336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580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133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586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3505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962520"/>
            <a:ext cx="1676520" cy="17524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3657600" cy="2133360"/>
          </a:xfrm>
          <a:prstGeom prst="rect">
            <a:avLst/>
          </a:prstGeom>
          <a:noFill/>
          <a:ln w="28440">
            <a:solidFill>
              <a:srgbClr val="a5002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2590920"/>
            <a:ext cx="304920" cy="30456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57600" y="3429000"/>
            <a:ext cx="304920" cy="3049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276720" y="2133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52680" y="220968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429000" y="2514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809880" y="297180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57800" y="152244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 hybrid model consisting of DPMJet and PYTHIA with nPDF EPS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886200" y="4419360"/>
            <a:ext cx="7621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80060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51055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3962520"/>
            <a:ext cx="1752840" cy="1752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57800" y="24382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Nuclear geometry by DPMJet and nPDF provided by EPS0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57800" y="33526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0021"/>
                </a:solidFill>
                <a:latin typeface="Arial"/>
              </a:rPr>
              <a:t>Parton level interaction and jet fragmentation completed in PYTH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41911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Nuclear evaporation ( gamma dexcitation/nuclear fission/fermi break up ) treated by DPM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4572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676520"/>
            <a:ext cx="2057400" cy="2133360"/>
          </a:xfrm>
          <a:prstGeom prst="rect">
            <a:avLst/>
          </a:prstGeom>
          <a:noFill/>
          <a:ln w="1260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5102280"/>
            <a:ext cx="382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cc00"/>
                </a:solidFill>
                <a:latin typeface="Arial"/>
              </a:rPr>
              <a:t>Energy loss effect from  routine by Salgado&amp;Wiedemann to simulate the nuclear fragmentation effect in cold nuclear mat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F7B3-CCF6-40B2-9B9B-719CD495819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ematics b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8800" y="2133720"/>
            <a:ext cx="6068880" cy="4376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720" y="297180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&lt;Q2&lt;1.5, 3.5&lt;Q2&lt;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5&lt;y&lt;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800" y="4692600"/>
            <a:ext cx="27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&lt;Q2&lt;1.5, 3.5&lt;Q2&lt;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&lt;y&lt;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90DE-C318-4D35-8778-453A4C5307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Kinematics bi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1800" y="2176560"/>
            <a:ext cx="6068880" cy="4376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440" y="29718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&lt;Q2&lt;10.5, 19.5&lt;Q2&lt;2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5&lt;y&lt;0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20" y="4692600"/>
            <a:ext cx="310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5&lt;Q2&lt;10.5, 19.5&lt;Q2&lt;2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5&lt;y&lt;0.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8703-FC74-4661-AB0B-5878D05EBE0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1080" y="960480"/>
            <a:ext cx="4314600" cy="2925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273920" y="2666880"/>
            <a:ext cx="4202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cc"/>
                </a:solidFill>
                <a:latin typeface="Arial"/>
              </a:rPr>
              <a:t>chi2=580.246 NDF=56 Prob=3.13384e-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3=0.162544 e3=0.00293428 (away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5=0.523957 e5=0.00681186 (away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81080" y="3886200"/>
            <a:ext cx="4314600" cy="2925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274280" y="4495680"/>
            <a:ext cx="4563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hi2=35.5971 NDF=26 Prob=0.09933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0=0.120179 e0=0.0110032 (peak like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p2=0.32241 e2=0.0239366 (peak like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3=0.0700998 e3=0.0120247 (base like heigh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p5=0.705258 e5=0.040013 (base like wid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1295280"/>
            <a:ext cx="1067040" cy="251460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4648320"/>
            <a:ext cx="1067040" cy="10666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943600"/>
            <a:ext cx="1981440" cy="762120"/>
          </a:xfrm>
          <a:prstGeom prst="ellipse">
            <a:avLst/>
          </a:prstGeom>
          <a:noFill/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6000" y="83808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+p y=0.7, Q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12240" y="19810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auss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920" y="405288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gauss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73392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267080" y="5791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it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762-C818-4E6F-AAD5-E4DBBDE8C4A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Q2 dependence-Single gauss 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952560" y="1371600"/>
            <a:ext cx="7581960" cy="5467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ic-tf-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12BE-6E0E-4F9F-B7DF-D03090957A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12/9/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01:10:28Z</dcterms:created>
  <dc:creator>liang</dc:creator>
  <dc:description/>
  <dc:language>en-US</dc:language>
  <cp:lastModifiedBy>liang</cp:lastModifiedBy>
  <dcterms:modified xsi:type="dcterms:W3CDTF">2012-09-06T17:16:08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